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8989-9BE4-4BBF-9271-EA0761B2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8F0-C17C-4D84-9A5D-A81D8AC4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870-2272-4F84-A48D-AB5FB3B9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E5AA-72C0-4BC5-B366-93807BC9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4107-7583-40D3-B2D5-1AFE3E6A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5EE-6FDE-45C0-A06B-0C5C575B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59A-B565-41CE-BB58-70E37E1F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29F-CB14-4064-808F-D8D034A5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D83-225F-4F88-907C-52860D35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C53-ACD7-4AAB-9A16-7BF24276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CBFF-2B3B-4D3B-AC6B-0B0B2CEA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8233-F28F-4E3D-BED1-2D2FFA91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1D2A-BBEF-4C9F-A663-193DD550CA8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is documentos\Sin título-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Mis documentos\Sin título-1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08:04:33Z</dcterms:created>
  <dc:creator>Grupo Editorial</dc:creator>
  <dc:description/>
  <dc:language>en-US</dc:language>
  <cp:lastModifiedBy>TORRES</cp:lastModifiedBy>
  <dcterms:modified xsi:type="dcterms:W3CDTF">2010-12-18T22:29:24Z</dcterms:modified>
  <cp:revision>1</cp:revision>
  <dc:subject/>
  <dc:title>Sin título de diapositiva</dc:title>
</cp:coreProperties>
</file>